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DD9-D4F7-4FEF-87F2-8381275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413-A261-4EC7-9E12-A24CE9F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357-F642-43D9-9402-446FB385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B90-9231-492B-A0E2-B32C9D75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A9E-6A3E-406A-AB41-C5C9E1D1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99E-CBF3-440A-BD3B-4EAD8F72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523-D5A4-4A57-95C4-5CA2488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42E-427C-482F-A8AD-CD996B8F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C70-42F0-4D70-A041-FD04510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E43-7E77-4219-AF7E-2EE83A3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506-B163-4C90-8CA9-CFA5525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E29-3DE9-4129-AC9D-238FDB9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3F0-94DF-4ABA-82F7-BF0EC748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darby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48769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ndsurf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2531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e Armi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0000" t="4963" r="40001" b="15661"/>
          <a:stretch/>
        </p:blipFill>
        <p:spPr>
          <a:xfrm>
            <a:off x="0" y="44197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733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Newman D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52924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hill_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Darby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279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502920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man Dar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darb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09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man Darby invented windsurfing on vacation in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Windsur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surfing was invented in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name at first was “sailboa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ver metal universal joint for the foot master was invented in 196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60’s wind surfing wasn’t very popular, but then in the 70’s it took o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were big fans, it was said that in every three houses someone ha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Newman Da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man created windsurfing with his girlfriend on va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4 Newman, his wife Naomi, and his brother started the “Darby Industri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4 Darby got a Science magazine to publish a 4 page article about windsurf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60’s sales weren’t good till Drake and Hoyle Schweitzer created wind surfing, and their duo made sales go up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man then changed the name from sailboard to windsur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5:06Z</dcterms:created>
  <dc:creator>install</dc:creator>
  <dc:description/>
  <dc:language>en-US</dc:language>
  <cp:lastModifiedBy>install</cp:lastModifiedBy>
  <dcterms:modified xsi:type="dcterms:W3CDTF">2011-09-26T13:56:43Z</dcterms:modified>
  <cp:revision>8</cp:revision>
  <dc:subject/>
  <dc:title>Slide 1</dc:title>
</cp:coreProperties>
</file>